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F233A-9735-4833-B12E-6CEB87953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654F2-56F5-4698-BFCE-2F7E8EDA8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409B0-0E6A-4782-9F9D-B236438B1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DA81C-87FD-442C-952C-11555ADD5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48605B-FD4B-46E2-8000-F591441BF3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606E5-9914-41A3-8939-E4DBB1DA0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58936-2CBF-42D8-B575-3CC0C1658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C4664-AF0D-43AD-A18C-BDD123F14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4F1AC-E4D1-4077-BDB6-8BACC7FEA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F2FC0-C91C-4619-B2DB-F7B73C695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E8FD6-F885-4624-8FEC-F4F4B2D67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2A1A4-58D8-4A4F-BE80-845AAEC8B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DF95A-EB41-428D-A22D-068A9410C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80B31-4A53-4416-B021-C8A36D2DE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CECE4-774E-4D0F-A9B6-F82AA6655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C8FD50-9CCB-4A77-ABB8-E18EC6050D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751153-3B7C-471C-9744-E6EFF1D52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B814C-D7E7-4986-8E9F-4DC5A5EEF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22053-3555-4BD3-ACE2-5841D7F71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5A1BA-1161-4799-8F69-49B317F71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98522-2645-48F8-A8D7-22DA8CA4A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65676-59F8-469F-878E-8DD5A020D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52B6E-3325-4D40-AAD9-1F5708DDF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4B5D8-2107-42B3-A4A7-3DDE4C559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21EF-92B3-4E96-BD1E-4032ED00D9D8}" type="slidenum">
              <a:rPr b="0" lang="en-GB"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0BB2A-AA6F-4A4F-815E-148C05E6064C}" type="slidenum">
              <a:rPr b="0" lang="en-GB"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ersonal Experience Writing</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the Standard Grade Folio</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makes a good essay?</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is self-awarenes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f-awareness is the ability to show that you are aware of your own feelings and reactions and understand why you behaved the way you did.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example, writing a sentence like:</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 know now that I was behaving like a spoilt child, but at the time I felt so betrayed by my mum. After all I was only eight!</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hows real self-awareness.</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try to explain you feelings – show the reader that you have reflected in depth and that you are aware of how and why you behaved as you did.</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nger!</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ink of a time in your life when you’ve been angry – there might be more than one!</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d someone say something to anger you?</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d someone do something to anger you?</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ve you been so angry that you didn’t think you’d be able to control your temp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nger! Essay</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You are going to give a personal response to the emotion anger, developing in detail your ideas, views, attitudes towards this very common feeling, saying what angers you.</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nger! Essay</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anning you essay</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will need to plan your essay first.</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aw a Mind-map like the one on the next slide  to brainstorm:</a:t>
            </a:r>
            <a:endParaRPr b="0" lang="en-US" sz="28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nger is</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makes you angry</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your anger manifests</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you calm down</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situations you’ve found yourself in</a:t>
            </a:r>
            <a:endParaRPr b="0" lang="en-US" sz="2400" spc="-1" strike="noStrike">
              <a:solidFill>
                <a:srgbClr val="000000"/>
              </a:solidFill>
              <a:latin typeface="Comic Sans MS"/>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nger! Essay</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otion, can be uncontrollable, RAGE</a:t>
            </a:r>
            <a:endParaRPr b="0" lang="en-US" sz="2000" spc="-1" strike="noStrike">
              <a:solidFill>
                <a:srgbClr val="000000"/>
              </a:solidFill>
              <a:latin typeface="Comic Sans MS"/>
            </a:endParaRPr>
          </a:p>
        </p:txBody>
      </p:sp>
      <p:sp>
        <p:nvSpPr>
          <p:cNvPr id="181" name=""/>
          <p:cNvSpPr/>
          <p:nvPr/>
        </p:nvSpPr>
        <p:spPr>
          <a:xfrm>
            <a:off x="3421080" y="2637000"/>
            <a:ext cx="2521080" cy="15112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780000" y="3068640"/>
            <a:ext cx="158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ger</a:t>
            </a:r>
            <a:endParaRPr b="0" lang="en-US" sz="3600" spc="-1" strike="noStrike">
              <a:solidFill>
                <a:srgbClr val="000000"/>
              </a:solidFill>
              <a:latin typeface="Arial"/>
            </a:endParaRPr>
          </a:p>
        </p:txBody>
      </p:sp>
      <p:sp>
        <p:nvSpPr>
          <p:cNvPr id="183" name=""/>
          <p:cNvSpPr/>
          <p:nvPr/>
        </p:nvSpPr>
        <p:spPr>
          <a:xfrm flipV="1">
            <a:off x="5651640" y="2204640"/>
            <a:ext cx="865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726160" y="3789360"/>
            <a:ext cx="129528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4787640" y="4149720"/>
            <a:ext cx="14436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1619280" y="3933720"/>
            <a:ext cx="216072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2626920" y="2060640"/>
            <a:ext cx="1368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ssay Introduction</a:t>
            </a: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ry to give a definition for the word, anger. Can you think of any slang terms for it? </a:t>
            </a:r>
            <a:endParaRPr b="0" lang="en-US" sz="2200" spc="-1" strike="noStrike">
              <a:solidFill>
                <a:srgbClr val="000000"/>
              </a:solidFill>
              <a:latin typeface="Comic Sans MS"/>
            </a:endParaRPr>
          </a:p>
          <a:p>
            <a:pPr marL="329040" indent="-3290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ke the point that we all are capable of anger from the moment we are born - you might want to back up this point, explaining how babies show anger, teenagers, adults, OAPs </a:t>
            </a:r>
            <a:endParaRPr b="0" lang="en-US" sz="2200" spc="-1" strike="noStrike">
              <a:solidFill>
                <a:srgbClr val="000000"/>
              </a:solidFill>
              <a:latin typeface="Comic Sans MS"/>
            </a:endParaRPr>
          </a:p>
          <a:p>
            <a:pPr marL="329040" indent="-3290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o on to make the point that anger is all around us in every-day life - give examples of anger from things you have seen - at home, at school, on TV/video, on the road, terraces</a:t>
            </a:r>
            <a:endParaRPr b="0" lang="en-US" sz="2200" spc="-1" strike="noStrike">
              <a:solidFill>
                <a:srgbClr val="000000"/>
              </a:solidFill>
              <a:latin typeface="Comic Sans MS"/>
            </a:endParaRPr>
          </a:p>
          <a:p>
            <a:pPr marL="329040" indent="-3290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Make sure you make each example you have used come alive by describing it in detail, using the most interesting vocabulary possible</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veloping Section</a:t>
            </a:r>
            <a:endParaRPr b="0" lang="en-US" sz="4400" spc="-1" strike="noStrike">
              <a:solidFill>
                <a:srgbClr val="000000"/>
              </a:solidFill>
              <a:latin typeface="Comic Sans MS"/>
            </a:endParaRPr>
          </a:p>
        </p:txBody>
      </p:sp>
      <p:sp>
        <p:nvSpPr>
          <p:cNvPr id="1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Go on to explain that you yourself have experienced anger - indicate that in the rest of your essay you intend to explain what makes you angry and why.</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re you normally the kind of person who flies into a rage? </a:t>
            </a:r>
            <a:endParaRPr b="0" lang="en-US" sz="2200" spc="-1" strike="noStrike">
              <a:solidFill>
                <a:srgbClr val="000000"/>
              </a:solidFill>
              <a:latin typeface="Comic Sans MS"/>
            </a:endParaRPr>
          </a:p>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in detail four or five examples where you lost your temper. </a:t>
            </a:r>
            <a:endParaRPr b="0" lang="en-US" sz="2200" spc="-1" strike="noStrike">
              <a:solidFill>
                <a:srgbClr val="000000"/>
              </a:solidFill>
              <a:latin typeface="Comic Sans MS"/>
            </a:endParaRPr>
          </a:p>
          <a:p>
            <a:pPr lvl="1" marL="743040" indent="-28584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 a paragraph for each example so that you can build it up in detail, explaining how the whole thing came about, why you reacted as you did and how the situation ended. Did your anger help or did it lead to more problems?</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veloping Section</a:t>
            </a:r>
            <a:endParaRPr b="0" lang="en-US" sz="4400" spc="-1" strike="noStrike">
              <a:solidFill>
                <a:srgbClr val="000000"/>
              </a:solidFill>
              <a:latin typeface="Comic Sans MS"/>
            </a:endParaRPr>
          </a:p>
        </p:txBody>
      </p:sp>
      <p:sp>
        <p:nvSpPr>
          <p:cNvPr id="19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will need to think about the organisation of your examples. </a:t>
            </a:r>
            <a:endParaRPr b="0" lang="en-US" sz="24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half the essay could look at anger which made the situation worse and the other half where it helped in some way.</a:t>
            </a:r>
            <a:endParaRPr b="0" lang="en-US" sz="2000" spc="-1" strike="noStrike">
              <a:solidFill>
                <a:srgbClr val="000000"/>
              </a:solidFill>
              <a:latin typeface="Comic Sans MS"/>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each half of the essay you could then subdivide your examples into home, school, friends, outside world (street, terraces, road)</a:t>
            </a:r>
            <a:endParaRPr b="0" lang="en-US" sz="20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sure each example is interesting and uses the best vocabulary you can to bring it alive. Really get across to the reader just how you felt, what was going through your mind/bod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lusion</a:t>
            </a:r>
            <a:endParaRPr b="0" lang="en-US" sz="4400" spc="-1" strike="noStrike">
              <a:solidFill>
                <a:srgbClr val="000000"/>
              </a:solidFill>
              <a:latin typeface="Comic Sans MS"/>
            </a:endParaRPr>
          </a:p>
        </p:txBody>
      </p:sp>
      <p:sp>
        <p:nvSpPr>
          <p:cNvPr id="1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m up what you have learned about anger from your essa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well as telling us what you have learned about yourself</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Beast Within</a:t>
            </a:r>
            <a:endParaRPr b="0" lang="en-US" sz="4400" spc="-1" strike="noStrike">
              <a:solidFill>
                <a:srgbClr val="000000"/>
              </a:solidFill>
              <a:latin typeface="Comic Sans MS"/>
            </a:endParaRPr>
          </a:p>
        </p:txBody>
      </p:sp>
      <p:sp>
        <p:nvSpPr>
          <p:cNvPr id="19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To have a fit; to go mad; to become enraged; to go ballistic; to fly off the handle; to go mental; to blow your top; to go crackers; to blow a gasket ... No matter what we call it, all of us have at one time or another experienced the emotion. Anger. Babies when they don't get fed regularly enough scream, kick and wail until they get attention. Teenagers, at the latest injustice perpetrated by uncaring parents who just don't understand, slam doors, stamp upstairs, huff and puff until the feeling subsides. Even pensioners mumble and mutter, their faces red with rage, when upset by the latest cut in their pensions.</a:t>
            </a:r>
            <a:endParaRPr b="0" lang="en-US" sz="23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is Personal Writing?</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n personal experience writing, also called 'personal reflective writing', yo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cribe a personal experien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ress your feelings about i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give your reactions to i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Beast Within</a:t>
            </a: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Anger is all around us and it would appear that few of us can escape its clutches. At home, parents shout in a foul temper when children misbehave, become enraged at the most recent telephone bill which drops unexpectedly and uninvited, turn into hurricanes of fury when their favourite television programme is cancelled to make way for the cricket highlights. Teachers explode in a supernova of rage when some piece of homework mysteriously gets eaten by the dog (honest, sir!). Motorists are reduced to slavering wrecks when a red light strikes just as they are about to accelerate through. It would appear that the whole world has gone mad.</a:t>
            </a:r>
            <a:endParaRPr b="0" lang="en-US" sz="23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Beast Within</a:t>
            </a:r>
            <a:endParaRPr b="0" lang="en-US" sz="4400" spc="-1" strike="noStrike">
              <a:solidFill>
                <a:srgbClr val="000000"/>
              </a:solidFill>
              <a:latin typeface="Comic Sans MS"/>
            </a:endParaRPr>
          </a:p>
        </p:txBody>
      </p:sp>
      <p:sp>
        <p:nvSpPr>
          <p:cNvPr id="20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It will come as no surprise, therefore, to learn that even I have been touched by the raging flames of fury and have come face to face on many occasions with the beast within. No that I would consider myself a particularly angry sort of person who is always flying off the handle. Indeed, there are not many things in life which make me see red. But brothers, for example, never cease to cause my blood to boil. I only have to look at my younger brother to feel my pulse racing and a curious desire comes over me to commit murder. It is probably due to his never- ending nosiness that I always seem to lose my temper.</a:t>
            </a:r>
            <a:endParaRPr b="0" lang="en-US" sz="23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Beast Within</a:t>
            </a: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Just recently, I arrived home from school exhausted by the trials and tribulations of Standard Grade torture to find him rifling through the cupboard where I keep my pocket money. He claimed he was only looking for the CDs he said he'd lent me months ago, but I could see by the embarrassed look on his face that I'd caught him out. When I get annoyed, I can feel the blood rushing into my face so that I probably resemble a beetroot on fire. My heart pounds faster than engine pistons and my mind goes blank with rage. At times like this I am not responsible for my actions. Indeed, after I had caught him poking his nose where it wasn't wanted, I completely lost the place and started pummelling him and throwing him around the bedroom. Hearing all the commotion upstairs, my mum entered stage left, hauled me off him, blaming me for bullying him and threatening to tell my dad about the disgraceful behaviour of his eldest son. Needless to say the complete injustice of this made me even madder!</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The Beast Within</a:t>
            </a:r>
            <a:endParaRPr b="0" lang="en-US" sz="4400" spc="-1" strike="noStrike">
              <a:solidFill>
                <a:srgbClr val="000000"/>
              </a:solidFill>
              <a:latin typeface="Comic Sans MS"/>
            </a:endParaRPr>
          </a:p>
        </p:txBody>
      </p:sp>
      <p:sp>
        <p:nvSpPr>
          <p:cNvPr id="20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When I get annoyed, I can feel the blood rushing into my face so that I probably resemble a beetroot on fire. My heart pounds faster than engine pistons and my mind goes blank with rage. At times like this I am not responsible for my actions. Indeed, after I had caught him poking his nose where it wasn't wanted, I completely lost the place and started pummelling him and throwing him around the bedroom. Hearing all the commotion upstairs, my mum entered stage left, hauled me off him, blaming me for bullying him and threatening to tell my dad about the disgraceful behaviour of his eldest son. Needless to say the complete injustice of this made me even madder!</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Beast Within</a:t>
            </a: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arents are really the worst source of anger. I can't stand the way they are always going on about not acting your age and being too immature. For example, I remember something that happened just last yea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 it easy?</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students think this is the easiest type of essay to write, but don't be fooled!</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 have to describe the experience you choose in great detail, as well as express your feelings about it in detail too.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r reflections after the event are also an important part of this type of essay.</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makes a good essay?</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n’t invent the experience</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ver make up an experience!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rkers are good at spotting the difference between someone who is describing a real event he/she has attended and someone who is making the whole thing up!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have never been on a protest march, you will find it difficult to explain your feelings and reactions to it in a convincing wa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makes a good essay?</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be the experience in detail</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ll the reader all about the experience:</a:t>
            </a:r>
            <a:endParaRPr b="0" lang="en-US" sz="28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happened?</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id it start?</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re did it take place? </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o were you with?</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was the atmosphere like?</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d things go according to plan?</a:t>
            </a:r>
            <a:endParaRPr b="0" lang="en-US" sz="2400" spc="-1" strike="noStrike">
              <a:solidFill>
                <a:srgbClr val="000000"/>
              </a:solidFill>
              <a:latin typeface="Comic Sans MS"/>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id it end?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makes a good essay?</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cribe the experience in detail</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ll the reader what things looked like and what sounds you heard.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your five senses to describe what you saw, touched, smelt, heard and tasted.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lots of detail - the more detail you use, the more interesting your writing will be.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is type of writing, the SQA is looking for you to show insigh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makes a good essay?</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es “showing insight” mean?</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wing insight means that you have realised something, that you have really thought in depth about what the experience has meant to you.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riting a sentence like:</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I realised very early in our holiday that the beggars who appeared every day did not mean to annoy us – they were just trying to get a few pennies from rich tourist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hows insight. </a:t>
            </a:r>
            <a:endParaRPr b="0" lang="en-US" sz="2400" spc="-1" strike="noStrike">
              <a:solidFill>
                <a:srgbClr val="000000"/>
              </a:solidFill>
              <a:latin typeface="Comic Sans MS"/>
            </a:endParaRPr>
          </a:p>
        </p:txBody>
      </p:sp>
      <p:sp>
        <p:nvSpPr>
          <p:cNvPr id="165" name=""/>
          <p:cNvSpPr/>
          <p:nvPr/>
        </p:nvSpPr>
        <p:spPr>
          <a:xfrm>
            <a:off x="1258920" y="4869000"/>
            <a:ext cx="6697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971640" y="4941720"/>
            <a:ext cx="74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makes a good essay?</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ress your feelings about the experience</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ll the reader how you felt - before the event, during it and afterwards. </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re you nervous, excited or scared? </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re you proud, upset or angry?</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member that your readers want to know how you felt.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n't forget to include your feelings and reactions throughout your writing - do not add them on at the end in one big sec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makes a good essay?</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flect on the experience</a:t>
            </a:r>
            <a:endParaRPr b="0" lang="en-US" sz="2400" spc="-1" strike="noStrike">
              <a:solidFill>
                <a:srgbClr val="000000"/>
              </a:solidFill>
              <a:latin typeface="Comic Sans MS"/>
            </a:endParaRPr>
          </a:p>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part usually comes at the end of your writing. </a:t>
            </a:r>
            <a:endParaRPr b="0" lang="en-US" sz="2400" spc="-1" strike="noStrike">
              <a:solidFill>
                <a:srgbClr val="000000"/>
              </a:solidFill>
              <a:latin typeface="Comic Sans MS"/>
            </a:endParaRPr>
          </a:p>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should look back on your experience and reflect on it (even if it was only a few days ago). </a:t>
            </a:r>
            <a:endParaRPr b="0" lang="en-US" sz="2400" spc="-1" strike="noStrike">
              <a:solidFill>
                <a:srgbClr val="000000"/>
              </a:solidFill>
              <a:latin typeface="Comic Sans MS"/>
            </a:endParaRPr>
          </a:p>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could explain how you learned something about yourself from the experience: </a:t>
            </a:r>
            <a:endParaRPr b="0" lang="en-US" sz="2400" spc="-1" strike="noStrike">
              <a:solidFill>
                <a:srgbClr val="000000"/>
              </a:solidFill>
              <a:latin typeface="Comic Sans MS"/>
            </a:endParaRPr>
          </a:p>
          <a:p>
            <a:pPr lvl="1" marL="713160" indent="-27432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you changed because of it </a:t>
            </a:r>
            <a:endParaRPr b="0" lang="en-US" sz="2000" spc="-1" strike="noStrike">
              <a:solidFill>
                <a:srgbClr val="000000"/>
              </a:solidFill>
              <a:latin typeface="Comic Sans MS"/>
            </a:endParaRPr>
          </a:p>
          <a:p>
            <a:pPr lvl="1" marL="713160" indent="-27432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your feelings and reactions surprised you. </a:t>
            </a:r>
            <a:endParaRPr b="0" lang="en-US" sz="2000" spc="-1" strike="noStrike">
              <a:solidFill>
                <a:srgbClr val="000000"/>
              </a:solidFill>
              <a:latin typeface="Comic Sans MS"/>
            </a:endParaRPr>
          </a:p>
          <a:p>
            <a:pPr lvl="1" marL="713160" indent="-27432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flect on the event - drawing a mind map may help you.</a:t>
            </a:r>
            <a:endParaRPr b="0" lang="en-US" sz="2000" spc="-1" strike="noStrike">
              <a:solidFill>
                <a:srgbClr val="000000"/>
              </a:solidFill>
              <a:latin typeface="Comic Sans MS"/>
            </a:endParaRPr>
          </a:p>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QA is looking for you to show self-awarenes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7T19:52:38Z</dcterms:created>
  <dc:creator>Gemma Pirie</dc:creator>
  <dc:description/>
  <dc:language>en-US</dc:language>
  <cp:lastModifiedBy>Gemma Pirie</cp:lastModifiedBy>
  <dcterms:modified xsi:type="dcterms:W3CDTF">2004-08-18T20:49:01Z</dcterms:modified>
  <cp:revision>10</cp:revision>
  <dc:subject/>
  <dc:title>Personal Experience Writing</dc:title>
</cp:coreProperties>
</file>